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C127-13B7-46BD-AEBC-61182D93C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B7D3-50FD-428A-9747-0B42CEEF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2A32-A0B7-406E-B67A-770BDCD2C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2520-515D-4223-A702-34CBC8FFC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6FEF-B82D-4D4A-82EA-05DBCD920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3FB6-F3C5-4C53-8D68-238E51A6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F57C-6FFA-480B-9CAE-80EC2F7C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50F2-8E57-476C-A285-0D5CA1B6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F804-2781-4884-9B0D-9436247D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635E-3463-417C-8647-F31E760F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2433-6F20-4B3E-A945-96823A9C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50AF-A25C-4C48-A18A-A99408E4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12E2-8BAB-4E41-A896-A268A082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6B86-40C3-4E4C-8FA7-9B894223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08BA-6C0C-4CC1-9875-AE3F83A9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A07D-099C-4FCD-8799-092332683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17E5-5D07-49D1-9783-03322F625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A6BA-9DE4-41C4-AE12-5F5A6AC3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65B0-18F2-49AA-B682-30028AB6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870D-B3E2-466F-8C20-ED6C6981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13C8-86BB-462A-ABF1-1E5E56CC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CB18-15EE-416F-96B2-4A10572B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DD93-87A6-4658-8A6B-5D29958F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2998-D67C-4E57-90C8-B1843F0D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0682-867D-4E03-82B5-D722B4665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13E1-B830-44BE-95F7-68FCCF9CDD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itch-Then-Plan Video Planning Templat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ortant Tip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alk slowly and clearl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e enthusiasti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actice, Practice and Practi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lax and have fun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out This Templat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use this template, read then delete all of the slides that have a black background.  Complete the slides that have a blue backgrou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out Entrepreneurshi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not learning to do, is the essence of entrepreneurshi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ember, no one ever achieved success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lann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or go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ardest thing about getting started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et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r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an (emerging) entrepreneur, you should always be selling—not strategizing about s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roper Proc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row together a pitch that contains the slides presented in this templat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ry it out on some mentors, friends, and relatives.  Do this about ten tim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et the team together in a room and discuss what you have learned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x the pitch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tart writing the script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plain Your Movie in The First Minut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ver has a presentation been given where the audience has said to itself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 wish the speaker had spent the first fifteen minutes explaining his life sto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le you</a:t>
            </a: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 busy warming up, your listeners are inevitably wondering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s your movie abou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everyone a favor:  Answer that question in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irst minu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 Once the audience has learned what you do, they can listen to everything else with a more focused perspecti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Video Tit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31237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r 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act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8869-0E22-4921-BA1A-0300FC7C0D05}" type="datetime2"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ursday, July 30, 2026</a:t>
            </a:fld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ribe exactly what you want the user to do after they see your movie. For example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e auidence memnbers will be able to name the habitat, adpatation  and environment of the Golden Montazah chick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y to personalize the pit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 Your Ide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 a great story tel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ree act structu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very familiar for fi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 I: Characters and Setting. End with inro of problem/go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 II: Solving the problem. End with Climax: the problem gets solv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 III: Happy ever after p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siness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lain how you make money:  who will see your movi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will your movie be special and differen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5:42:13Z</dcterms:created>
  <dc:creator/>
  <dc:description/>
  <dc:language>en-US</dc:language>
  <cp:lastModifiedBy>Scott Moss</cp:lastModifiedBy>
  <dcterms:modified xsi:type="dcterms:W3CDTF">2013-02-14T18:22:18Z</dcterms:modified>
  <cp:revision>36</cp:revision>
  <dc:subject/>
  <dc:title>The Pitch-Then-Plan Business Planning Template</dc:title>
</cp:coreProperties>
</file>